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51287"/>
        <c:axId val="3836468"/>
      </c:barChart>
      <c:catAx>
        <c:axId val="72051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6468"/>
        <c:crosses val="autoZero"/>
        <c:auto val="1"/>
        <c:lblAlgn val="ctr"/>
        <c:lblOffset val="100"/>
        <c:noMultiLvlLbl val="0"/>
      </c:catAx>
      <c:valAx>
        <c:axId val="3836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51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877-61A9-4EB9-A432-FB37BB4C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967-5325-4135-8217-346C9833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47A-7050-4974-97DA-66D2827D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2F0-6B3F-4F42-A8C1-F083C46B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6A3-A3F0-4D0F-8CCA-BDC87911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B22-433E-4149-B75D-DEA07FF2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B21-BD0A-4936-A42C-40282E4D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456-E29F-455B-99CE-0406C4FB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72C-5878-42A9-97AB-166BABA2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7F2-0F12-40BE-95FE-0C6B2511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237-2D94-4C2D-9FFB-BEDAA9B6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927-3B2C-4E99-BB6E-C604B7C3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CCA25-AE8D-4B2C-A679-14665504D0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