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11109"/>
        <c:axId val="50257952"/>
      </c:barChart>
      <c:catAx>
        <c:axId val="389111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57952"/>
        <c:crosses val="autoZero"/>
        <c:auto val="1"/>
        <c:lblAlgn val="ctr"/>
        <c:lblOffset val="100"/>
        <c:noMultiLvlLbl val="0"/>
      </c:catAx>
      <c:valAx>
        <c:axId val="50257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111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5421-3DA7-4435-88A6-B1D04AD9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6DE-F821-44B6-8B2E-BA5C7E81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6C5-EC9C-4FF8-8F56-DA731F6E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4E5C-2A7C-45A9-BD7E-A7836811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550-AA6C-4F3B-9D33-A7C3D3FD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658D-29B7-4609-B72D-F716E40D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0A9-F106-467D-9BF0-BA6F6261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229-059F-4D35-9D14-85EC8E3C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DA0-273E-4801-B052-53F2ECB7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86F-F506-4333-A229-0CAC28CC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99EC-13B0-43E7-98F5-A7184FE7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77D-4779-44D1-85E6-19CBE805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1FF85-C760-4619-8071-7A5AB157CA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