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7496"/>
        <c:axId val="81593424"/>
      </c:barChart>
      <c:catAx>
        <c:axId val="63674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93424"/>
        <c:crosses val="autoZero"/>
        <c:auto val="1"/>
        <c:lblAlgn val="ctr"/>
        <c:lblOffset val="100"/>
        <c:noMultiLvlLbl val="0"/>
      </c:catAx>
      <c:valAx>
        <c:axId val="81593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74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2E8-9522-47A1-97BD-D2A40787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1FA-9F68-4B7C-BEBF-30862787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399-A615-4B3B-A7A9-27660487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C8F-C0ED-48F7-BD3B-62540B08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A95-65DA-4D7F-8EF0-AE270E7D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35B-5FCC-4DC4-BD5D-2C38A811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5EC-C655-46AD-93E6-FEAD559B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D62-80EA-4048-9716-39E6F12B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7A7-421A-4050-B02C-FAE14090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A25-BAC8-4A5B-A11E-03C295C8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FBC-33DB-41F4-9486-5D796265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BF3-C7DA-4FE6-ADCF-0DFEDBCF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82B05-0375-474C-B0A9-3EFA4F7CB5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