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11741"/>
        <c:axId val="52295292"/>
      </c:barChart>
      <c:catAx>
        <c:axId val="39511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95292"/>
        <c:crosses val="autoZero"/>
        <c:auto val="1"/>
        <c:lblAlgn val="ctr"/>
        <c:lblOffset val="100"/>
        <c:noMultiLvlLbl val="0"/>
      </c:catAx>
      <c:valAx>
        <c:axId val="52295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11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D95-AC4E-4381-A01B-B85ACB3A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530-F86A-4405-A721-DF5375C8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B73-D1E0-4498-A60E-FECD2B8D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038-DFB9-4F7B-AC3E-385C58E0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E4D-7709-4D62-8B0C-B5F83B3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FDA-6E1E-46ED-A65F-395A2237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8BD-8CF7-44F0-BC65-507E74D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476-C40F-4F9F-A77F-D546907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10C-4070-4FA6-B374-E84E854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45E-528C-44E3-BDC7-E3A751E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23A-FAD9-4274-8B15-CCB57B0F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047-1BA4-4682-86C6-95AFC89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8BA66-AEC4-4074-99C8-E88793DEDD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