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53666"/>
        <c:axId val="16555314"/>
      </c:barChart>
      <c:catAx>
        <c:axId val="36253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55314"/>
        <c:crosses val="autoZero"/>
        <c:auto val="1"/>
        <c:lblAlgn val="ctr"/>
        <c:lblOffset val="100"/>
        <c:noMultiLvlLbl val="0"/>
      </c:catAx>
      <c:valAx>
        <c:axId val="16555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53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68E-EC98-48E3-AAFE-50CF8DF8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29A-16EA-4827-8EE4-02981754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1299-B62C-4C47-BB4D-9B410D6D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14C-70CD-4242-89D2-6DB27E6D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2A5-B718-4F93-8D81-C6A873B0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734-2ADF-416F-B223-38D29DD0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F39-6963-482F-BFED-15DA947F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6EFA-6672-4187-87CB-E551F08C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FF1-4414-4DBF-9296-DDF6147B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FC5-7749-4D87-A0F3-5C40FB71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EF4-DC0E-463D-A7B4-ABCEA91B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4776-09EA-4B28-AA29-F23BA483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797C5-A560-44FC-A3C8-796551F06F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