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130192"/>
        <c:axId val="25124799"/>
      </c:barChart>
      <c:catAx>
        <c:axId val="591301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124799"/>
        <c:crosses val="autoZero"/>
        <c:auto val="1"/>
        <c:lblAlgn val="ctr"/>
        <c:lblOffset val="100"/>
        <c:noMultiLvlLbl val="0"/>
      </c:catAx>
      <c:valAx>
        <c:axId val="251247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1301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EEC3-7493-478C-9B05-37DF8F556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89B1-C278-423A-925E-0BF96B7C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9B59-069A-4D92-ACFE-AEE7A7477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E4C1-A1D4-4DB3-A984-264E9D3AF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1372-7B80-41D0-A879-9EB29D51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EE56-F87F-4724-977C-23EA840F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2618-87FC-40DD-A2A2-8473383D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1F78-4ECC-47F5-88CE-C51DA7F4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AFF2-28D2-48F3-88E9-C160BA8E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DDE1-B578-4DFF-9A32-9EE45D68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DE18-9C33-4AD1-B000-F0CD82D9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7792-25F3-4A10-B45F-C621305D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46AEC5-A3B1-4D4D-86A1-C8DFBDCA57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