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46955"/>
        <c:axId val="76598337"/>
      </c:barChart>
      <c:catAx>
        <c:axId val="11046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98337"/>
        <c:crosses val="autoZero"/>
        <c:auto val="1"/>
        <c:lblAlgn val="ctr"/>
        <c:lblOffset val="100"/>
        <c:noMultiLvlLbl val="0"/>
      </c:catAx>
      <c:valAx>
        <c:axId val="76598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6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2AB-AD74-49CE-95DB-B06C3E13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129-D655-43F2-BE9F-E7FEA066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B3C-CAAD-4AB0-BCA0-0D876905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FAE-EC34-42E0-B781-C559EB52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4E3-CC16-4B68-B374-90CA6BD1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26FC-A566-4119-BFAF-9D6F3624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204-E2FD-4306-BDF9-E5A3ABEC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CEE-7083-4B98-97D4-57A2376C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5D1-5C68-4070-AE8C-6F712B72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F2F-4A1E-49D9-8CB8-C2B28A8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401-5BEC-4C2D-BAE9-3F0CDB6E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F77-DBBC-428E-84ED-1AED41A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1C17B-52E7-4190-9D83-0AF234AACE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