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86735"/>
        <c:axId val="5303473"/>
      </c:barChart>
      <c:catAx>
        <c:axId val="19186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3473"/>
        <c:crosses val="autoZero"/>
        <c:auto val="1"/>
        <c:lblAlgn val="ctr"/>
        <c:lblOffset val="100"/>
        <c:noMultiLvlLbl val="0"/>
      </c:catAx>
      <c:valAx>
        <c:axId val="5303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86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714-5428-4B6C-9EEC-6BC6037D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7F5-BD1A-42F8-928E-523713AF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264-CBDA-437D-9479-B77303CC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D8E-F33C-49FF-8111-7FD45571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CAC-330E-4B92-AB0D-19F3F195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BF9-FAAF-4478-9434-53A36E58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173-9CD0-480B-B62F-1C1FBEC8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1A7-9D33-44D3-99DD-6535E708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9EC-7193-4A51-A043-8170A19C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7C5-31A1-4D7F-A963-C2C59811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498-AEF5-4EAA-8FC7-EC7787B5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4AC-20F8-4F23-9C2E-4DAB75BC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BD860-C89E-48AD-A60D-41DCC1C0CC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