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94388"/>
        <c:axId val="68663126"/>
      </c:barChart>
      <c:catAx>
        <c:axId val="60494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63126"/>
        <c:crosses val="autoZero"/>
        <c:auto val="1"/>
        <c:lblAlgn val="ctr"/>
        <c:lblOffset val="100"/>
        <c:noMultiLvlLbl val="0"/>
      </c:catAx>
      <c:valAx>
        <c:axId val="68663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94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069-EDC1-4F66-84E0-2E7890EF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683-B063-409B-92FB-8DA5A160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BF9-D491-4929-8348-4811FC55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624-596E-4215-8580-291F3B39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6A4-3579-42A0-8149-770D9FD1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654-E76B-4C9B-BCC4-F95747CB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977-BD67-4DAC-9D63-FAA2DAF2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1C8-2D65-49D8-B9D3-7DF79D7F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8B3-0DCF-4245-A748-3200AA5A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A6BC-EC0E-4201-BD9B-969348C4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4CE-369D-4A0C-B9B2-59DB8A6D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FEA8-F20B-447C-A31A-81F06589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7078C-EBAC-4BC9-8C70-AF3F9E22BF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