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45373"/>
        <c:axId val="45383368"/>
      </c:barChart>
      <c:catAx>
        <c:axId val="79245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3368"/>
        <c:crosses val="autoZero"/>
        <c:auto val="1"/>
        <c:lblAlgn val="ctr"/>
        <c:lblOffset val="100"/>
        <c:noMultiLvlLbl val="0"/>
      </c:catAx>
      <c:valAx>
        <c:axId val="45383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45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EE4-C39E-41B9-BCF4-BCD81F6C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51C-5747-4597-8101-37FAF9C8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3E4-BBF9-40F0-A0E9-44067855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79B-9710-466B-B746-5EA4244C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228-99A8-4E30-90C6-51BBF94C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042-B2D0-49DE-A59B-85BF16F0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307-39B3-4998-9ADB-039B022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BC9-D359-42F5-89E2-B7825D58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19D-A85B-4549-94D9-3DC7DC4A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A33-B308-4B29-8B9C-9284D99F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324-C6D5-4F72-A9DE-AAF9DE4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261-D796-4556-9BAA-B6D5AC30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849F5-F102-46F9-AF21-9DBFA96E48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