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914136"/>
        <c:axId val="28770924"/>
      </c:barChart>
      <c:catAx>
        <c:axId val="619141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770924"/>
        <c:crosses val="autoZero"/>
        <c:auto val="1"/>
        <c:lblAlgn val="ctr"/>
        <c:lblOffset val="100"/>
        <c:noMultiLvlLbl val="0"/>
      </c:catAx>
      <c:valAx>
        <c:axId val="287709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9141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60F5-DB39-470B-8D7C-A0EB6BBC6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FF3A-928E-4EE3-87E6-05B114F9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AA36-828B-4ACD-9D12-49422566E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02F5-8BCF-4E24-A42B-4A22E1EA1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77B4-5859-4DFF-AA1E-B6B429A1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DFB4-26AD-42C5-8760-14139E81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6D40-F3A9-444A-8A33-389974E0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A990-7F93-40C7-9D80-65435943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0B62-9AA5-497F-A106-5F25D8C0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7E6B-66F6-485E-BB67-79E426DA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4121-94A2-4D19-99A8-C4CB3100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0A57-F8DA-4D2C-9C63-292FD43A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E4221B-EA47-4B13-9356-35F2658209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