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75548"/>
        <c:axId val="74205903"/>
      </c:barChart>
      <c:catAx>
        <c:axId val="20175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5903"/>
        <c:crosses val="autoZero"/>
        <c:auto val="1"/>
        <c:lblAlgn val="ctr"/>
        <c:lblOffset val="100"/>
        <c:noMultiLvlLbl val="0"/>
      </c:catAx>
      <c:valAx>
        <c:axId val="74205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5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84D-2A82-4779-A21A-4547B22B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7B5-3BEE-4C2D-92CE-227C1DB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FEF-1627-4A8A-BF81-102002C6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F78-4E36-43BE-8B8E-E396226E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4A8-E35C-4483-BBFD-5CDAEB8A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F19-A517-473E-940E-646832E0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6C1-1223-4378-ABA9-E7029BF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DCE-329F-4931-B5AD-E909ABD4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9FC-1D10-4373-B174-0D911B6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53C-E384-450C-80EC-B759910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89D-75DB-4384-A845-7153AA29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8B1-9F4A-4FF0-AE21-4DA4F97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1F574-D42C-49D3-815C-E504C92C0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