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14636"/>
        <c:axId val="80852126"/>
      </c:barChart>
      <c:catAx>
        <c:axId val="77414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52126"/>
        <c:crosses val="autoZero"/>
        <c:auto val="1"/>
        <c:lblAlgn val="ctr"/>
        <c:lblOffset val="100"/>
        <c:noMultiLvlLbl val="0"/>
      </c:catAx>
      <c:valAx>
        <c:axId val="80852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4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DC7-398A-49DB-959C-6F675ABE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922-BC08-401E-91A9-A9542B17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332-FBD2-4C1C-BC0A-5A2B93C7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64B-EE75-4369-8B6F-52F142CD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F98-5E0F-4D20-8E17-DA2245AA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10C-7704-4357-87C3-319F0B4F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568-E04B-4F2C-80B6-5CA252A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03D-8531-4C46-B143-4F8DB1B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FD9-1D1F-4035-96AD-E7EAB6A1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772-085F-411D-BAB4-F749BC5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E9F-BC2C-46C0-A363-F8781F2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75E-A0E6-4281-B674-CB547ED8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94E2F-AB95-4861-B89C-FB69ADFB67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