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37555"/>
        <c:axId val="20042721"/>
      </c:barChart>
      <c:catAx>
        <c:axId val="21837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2721"/>
        <c:crosses val="autoZero"/>
        <c:auto val="1"/>
        <c:lblAlgn val="ctr"/>
        <c:lblOffset val="100"/>
        <c:noMultiLvlLbl val="0"/>
      </c:catAx>
      <c:valAx>
        <c:axId val="20042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37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3EF-813A-4C0B-B452-00AEBA5B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79B-F792-4B58-80E1-3CDBF99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BBA-E3D8-47D1-AE35-97B2C67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9F4-4C14-451A-9665-3BD23B59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DBE-164E-4F1D-BC0B-16B96612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D42-3818-4D59-A08E-8C2D1C76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B1F-CB1D-496B-8FFA-2149E6CF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31C-FFC5-464F-8DD2-E8041076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3B7-DEBE-4490-909C-D47F6DC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66D-E5C0-4B8B-A06B-B331391B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1D4-8DCC-450B-B20D-2A8AFC4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2C9-E5CE-4AD5-8DEC-FBDB1F1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8E333-C338-47A8-B9CA-80F4A7644F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