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84587"/>
        <c:axId val="59145449"/>
      </c:barChart>
      <c:catAx>
        <c:axId val="32584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45449"/>
        <c:crosses val="autoZero"/>
        <c:auto val="1"/>
        <c:lblAlgn val="ctr"/>
        <c:lblOffset val="100"/>
        <c:noMultiLvlLbl val="0"/>
      </c:catAx>
      <c:valAx>
        <c:axId val="59145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84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B14-64ED-4800-A941-D175F025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F36-BBBE-4811-ADA0-B4DC0528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469-3256-4586-BC2A-F4EAC3E7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004-548D-4121-B12C-F5779E59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B3F-0ADB-4239-9A96-E25CC0D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7C1-9A65-4F7E-B3AE-27C9C521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552-412A-4002-9398-B21346B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27C-CD94-4449-8122-0FEFD312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6BF-82C9-4A9B-8B95-51EFC461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ED9-ED66-42B4-A017-27A57F9C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29B-580E-4696-BB8A-8EEB39B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AFD-0DB8-4117-848C-23D3F38E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6284B-947F-4C31-ADA5-E3A8BCCC52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