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20696"/>
        <c:axId val="32173925"/>
      </c:barChart>
      <c:catAx>
        <c:axId val="55320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73925"/>
        <c:crosses val="autoZero"/>
        <c:auto val="1"/>
        <c:lblAlgn val="ctr"/>
        <c:lblOffset val="100"/>
        <c:noMultiLvlLbl val="0"/>
      </c:catAx>
      <c:valAx>
        <c:axId val="32173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0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A35-B29C-48CE-9D60-CF8AF76F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286-6FC7-4F99-9030-56FA690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7F3-FC3C-40B3-91A6-36E42EE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AF-9531-4D91-BC1E-DFA0FD0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FF0-0766-4478-816E-E04F399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9BD-F2EB-4EAD-9C2E-F8077E6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B87-0556-43D3-9D59-3C3D9AEC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919-FA21-493C-8786-4E23022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EB3-29F7-450F-ABA3-A42005C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F4D-5CB3-4986-B033-11F2D66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FF9-6BD4-4C3B-B74B-27B9D98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2F8-B2E4-4595-8370-2F85CD5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E7AF-BC53-4C56-B280-A990968162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