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63597"/>
        <c:axId val="9196135"/>
      </c:barChart>
      <c:catAx>
        <c:axId val="64863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6135"/>
        <c:crosses val="autoZero"/>
        <c:auto val="1"/>
        <c:lblAlgn val="ctr"/>
        <c:lblOffset val="100"/>
        <c:noMultiLvlLbl val="0"/>
      </c:catAx>
      <c:valAx>
        <c:axId val="9196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63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EF1-4B7D-4835-B872-AB1DB5F0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6FD-0463-4812-96A8-1E8E14C8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F73-FD10-4F5C-8BBD-186E0B14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405-F5F5-42F4-BF05-E4AD50E2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C30-A670-4626-9A1C-9CC6F268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7B3-C746-4B56-AEA8-2F38037E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89F-9C89-4180-B240-5C93F175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8FA-5425-42EF-99B8-4040EE88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DA5-0D3C-4C34-B2A9-E72CA28D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DF4-4807-4164-AC9A-2642FFE8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595-E4D8-4D80-9561-79775A6F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867-BBBD-4A8B-B674-A80A3B50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0B45E-ED90-44F1-822C-0CB1882825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