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1158"/>
        <c:axId val="94481272"/>
      </c:barChart>
      <c:catAx>
        <c:axId val="7951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81272"/>
        <c:crosses val="autoZero"/>
        <c:auto val="1"/>
        <c:lblAlgn val="ctr"/>
        <c:lblOffset val="100"/>
        <c:noMultiLvlLbl val="0"/>
      </c:catAx>
      <c:valAx>
        <c:axId val="94481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1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A9F-A209-483C-B011-1C694C98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C57-E7EF-4132-A368-731569B6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C33-F19C-4783-B368-1E1082CE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15B-CA91-40B2-B960-ACFF3042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62D-C643-4953-A499-3CB38D39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94D-721A-43A8-9E75-13E4711B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C2F-B2EB-4DED-8150-5C03E3D3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0F6-0745-4D48-A59E-9FFD74C1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7D2-7318-436D-9241-70C9015F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153-3548-4546-BF54-BB0BE8F8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650-5444-4D22-807B-0CE12312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7E2-B622-46D1-B4BE-5A6DB0FA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3ABAC-8409-438E-9989-C16D152822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