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87246"/>
        <c:axId val="26076681"/>
      </c:barChart>
      <c:catAx>
        <c:axId val="20287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76681"/>
        <c:crosses val="autoZero"/>
        <c:auto val="1"/>
        <c:lblAlgn val="ctr"/>
        <c:lblOffset val="100"/>
        <c:noMultiLvlLbl val="0"/>
      </c:catAx>
      <c:valAx>
        <c:axId val="26076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87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691-BCDD-4130-9F5A-D7EE15B8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EED-E8D0-401E-B1D6-740709B9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AF4-A266-4383-94E4-64F5D13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A4A-A5DC-4524-B414-4104BC5D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473-8F74-499D-BBE4-C83045B6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C86-FDFD-470A-A4DE-9AF94827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74C-91C9-4E53-BCE7-86F08F0B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1DE-2EDE-4BD9-82AE-1534260D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E4D-7AF2-408F-B29C-D6DF6FFD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CD3-3C69-412C-B041-D677149F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B2D-454D-4F75-B64B-5D2445D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E3A-6A08-4412-982F-4B2DD705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94046-81AB-4006-AD70-F3A74C9BA2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