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01723"/>
        <c:axId val="48913104"/>
      </c:barChart>
      <c:catAx>
        <c:axId val="830017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13104"/>
        <c:crosses val="autoZero"/>
        <c:auto val="1"/>
        <c:lblAlgn val="ctr"/>
        <c:lblOffset val="100"/>
        <c:noMultiLvlLbl val="0"/>
      </c:catAx>
      <c:valAx>
        <c:axId val="48913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017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401-5293-42B4-887B-C751782C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CF86-89D8-4529-A9CA-276A1996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5ECD-57F2-438B-8EAE-CF4B7FF2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26D3-68B2-46FB-BE3D-8152B352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CCF-6E6C-491D-A14C-8A64F866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4973-FABE-4D35-9BAF-14EF0E29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BD0C-90BE-42B9-B234-4E9EE3B2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DCB-B6CC-4182-9DF5-0A0ABDD2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487-34EB-4088-B671-228F51BC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4D36-806B-4279-86A9-D4535F63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7FE4-41CF-428F-B7F5-D13EC3E5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5C0-B33E-4010-AE18-DCE3AA0E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2F724-84A0-4884-9DBA-29BF6C9E38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